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21.jpeg" ContentType="image/jpeg"/>
  <Override PartName="/ppt/media/image16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6-08-19T16:09:30.035000000" idx="1">
    <p:pos x="1479" y="62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03EB-380D-458D-9909-C49793D365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C6B6-CA63-4282-BB21-7200DE0DA1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BFF-29CD-4ABB-A879-F4332F503B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3340-FAD3-46F8-A95D-BC495E2C4F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图形的运动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492360" y="3430440"/>
            <a:ext cx="4896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87640" y="2565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认识平移、旋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116000" y="25844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在括号里填上“平移”或“旋转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1-4.EPS" descr="id:2147503451;FounderCES"/>
          <p:cNvPicPr/>
          <p:nvPr/>
        </p:nvPicPr>
        <p:blipFill>
          <a:blip r:embed="rId3"/>
          <a:stretch/>
        </p:blipFill>
        <p:spPr>
          <a:xfrm>
            <a:off x="1724040" y="3500280"/>
            <a:ext cx="5977080" cy="10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1300320" y="2655720"/>
            <a:ext cx="65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是物体绕一个点或一个轴运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发生了变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本来向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向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来向上现在向下、向左或向右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移是物体沿一个方向运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状、大小、方向都不发生变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置却发生变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-4.EPS" descr="id:2147503451;FounderCES"/>
          <p:cNvPicPr/>
          <p:nvPr/>
        </p:nvPicPr>
        <p:blipFill>
          <a:blip r:embed="rId1"/>
          <a:stretch/>
        </p:blipFill>
        <p:spPr>
          <a:xfrm>
            <a:off x="1538280" y="3324240"/>
            <a:ext cx="5977080" cy="101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7"/>
          <p:cNvSpPr/>
          <p:nvPr/>
        </p:nvSpPr>
        <p:spPr>
          <a:xfrm>
            <a:off x="1979640" y="336852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"/>
          <p:cNvSpPr/>
          <p:nvPr/>
        </p:nvSpPr>
        <p:spPr>
          <a:xfrm rot="18297600">
            <a:off x="674532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9"/>
          <p:cNvSpPr/>
          <p:nvPr/>
        </p:nvSpPr>
        <p:spPr>
          <a:xfrm>
            <a:off x="1692360" y="19162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车轮的运动是平移现象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3419640" y="2433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75564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9"/>
          <p:cNvSpPr/>
          <p:nvPr/>
        </p:nvSpPr>
        <p:spPr>
          <a:xfrm>
            <a:off x="958680" y="2476440"/>
            <a:ext cx="732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分清平移和旋转的特征。平移是沿着直线运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不发生改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是物体绕着某点或中心轴运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身方向发生改变。车轮在转动的过程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发生了改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是旋转现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平移现象。区别平移和旋转的关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看运动的物体本身是否发生了方向性的转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5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5"/>
          <p:cNvSpPr/>
          <p:nvPr/>
        </p:nvSpPr>
        <p:spPr>
          <a:xfrm rot="18297600">
            <a:off x="544968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3" name="Picture 3" descr="F:\七彩课堂插图板式封面\排版用图标、页眉页脚\标题jpg\读读比比.jpg"/>
          <p:cNvPicPr/>
          <p:nvPr/>
        </p:nvPicPr>
        <p:blipFill>
          <a:blip r:embed="rId5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4" name="矩形 20"/>
          <p:cNvSpPr/>
          <p:nvPr/>
        </p:nvSpPr>
        <p:spPr>
          <a:xfrm rot="18297600">
            <a:off x="5376600" y="26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1692360" y="19162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车轮的运动是平移现象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3419640" y="2433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468440" y="38638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车轮的运动是平移现象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3195720" y="42940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AF33.EPS" descr="id:2147503340;FounderCES"/>
          <p:cNvPicPr/>
          <p:nvPr/>
        </p:nvPicPr>
        <p:blipFill>
          <a:blip r:embed="rId1"/>
          <a:stretch/>
        </p:blipFill>
        <p:spPr>
          <a:xfrm>
            <a:off x="851040" y="3573360"/>
            <a:ext cx="7777080" cy="208440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2"/>
          <a:srcRect l="16672" t="0" r="0" b="0"/>
          <a:stretch/>
        </p:blipFill>
        <p:spPr>
          <a:xfrm>
            <a:off x="6443640" y="836640"/>
            <a:ext cx="216072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84360" y="1773360"/>
            <a:ext cx="568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哪些运动有旋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的在图片下面画“√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的画“✕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059280" y="530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144440" y="52452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6877080" y="5291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859280" y="5300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98640" y="202392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现象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平移现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AF31.eps" descr="id:2147503254;FounderCES"/>
          <p:cNvPicPr/>
          <p:nvPr/>
        </p:nvPicPr>
        <p:blipFill>
          <a:blip r:embed="rId1"/>
          <a:stretch/>
        </p:blipFill>
        <p:spPr>
          <a:xfrm>
            <a:off x="826920" y="3486240"/>
            <a:ext cx="7705800" cy="2055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4500720" y="184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1011240" y="1989000"/>
            <a:ext cx="7262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几幅图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可以由平移得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AF32.eps" descr="id:2147503261;FounderCES"/>
          <p:cNvPicPr/>
          <p:nvPr/>
        </p:nvPicPr>
        <p:blipFill>
          <a:blip r:embed="rId2"/>
          <a:stretch/>
        </p:blipFill>
        <p:spPr>
          <a:xfrm>
            <a:off x="826920" y="3141720"/>
            <a:ext cx="7480440" cy="1909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4427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82"/>
          <p:cNvSpPr/>
          <p:nvPr/>
        </p:nvSpPr>
        <p:spPr>
          <a:xfrm>
            <a:off x="1069920" y="177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两个图形通过平移可以完全重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1-6.EPS" descr="id:2147503502;FounderCES"/>
          <p:cNvPicPr/>
          <p:nvPr/>
        </p:nvPicPr>
        <p:blipFill>
          <a:blip r:embed="rId1"/>
          <a:stretch/>
        </p:blipFill>
        <p:spPr>
          <a:xfrm>
            <a:off x="1646280" y="3068640"/>
            <a:ext cx="5778360" cy="2433600"/>
          </a:xfrm>
          <a:prstGeom prst="rect">
            <a:avLst/>
          </a:prstGeom>
          <a:ln w="0">
            <a:noFill/>
          </a:ln>
        </p:spPr>
      </p:pic>
      <p:sp>
        <p:nvSpPr>
          <p:cNvPr id="194" name="直接连接符 2"/>
          <p:cNvSpPr/>
          <p:nvPr/>
        </p:nvSpPr>
        <p:spPr>
          <a:xfrm>
            <a:off x="2468520" y="3860640"/>
            <a:ext cx="145584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85"/>
          <p:cNvSpPr/>
          <p:nvPr/>
        </p:nvSpPr>
        <p:spPr>
          <a:xfrm>
            <a:off x="4732200" y="3889440"/>
            <a:ext cx="145584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86"/>
          <p:cNvSpPr/>
          <p:nvPr/>
        </p:nvSpPr>
        <p:spPr>
          <a:xfrm flipH="1">
            <a:off x="2700360" y="3882960"/>
            <a:ext cx="3997440" cy="79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5751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展空间观念，培养观察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56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平移和旋转现象的基本特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平移、旋转现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8"/>
          <p:cNvSpPr/>
          <p:nvPr/>
        </p:nvSpPr>
        <p:spPr>
          <a:xfrm>
            <a:off x="1590840" y="16984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鱼可以通过平移与蓝色小鱼重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它们圈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AF63.EPS" descr="id:2147504308;FounderCES"/>
          <p:cNvPicPr/>
          <p:nvPr/>
        </p:nvPicPr>
        <p:blipFill>
          <a:blip r:embed="rId1"/>
          <a:stretch/>
        </p:blipFill>
        <p:spPr>
          <a:xfrm>
            <a:off x="1590840" y="3141720"/>
            <a:ext cx="5832360" cy="2531880"/>
          </a:xfrm>
          <a:prstGeom prst="rect">
            <a:avLst/>
          </a:prstGeom>
          <a:ln w="0">
            <a:noFill/>
          </a:ln>
        </p:spPr>
      </p:pic>
      <p:sp>
        <p:nvSpPr>
          <p:cNvPr id="201" name="椭圆 29"/>
          <p:cNvSpPr/>
          <p:nvPr/>
        </p:nvSpPr>
        <p:spPr>
          <a:xfrm>
            <a:off x="1928880" y="4406760"/>
            <a:ext cx="1079280" cy="1266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30"/>
          <p:cNvSpPr/>
          <p:nvPr/>
        </p:nvSpPr>
        <p:spPr>
          <a:xfrm>
            <a:off x="6189840" y="3500280"/>
            <a:ext cx="1081080" cy="1266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0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AutoShape 27"/>
          <p:cNvSpPr/>
          <p:nvPr/>
        </p:nvSpPr>
        <p:spPr>
          <a:xfrm>
            <a:off x="5800680" y="1622520"/>
            <a:ext cx="2881440" cy="93636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移与旋转的区别是旋转有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1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矩形 18"/>
          <p:cNvSpPr/>
          <p:nvPr/>
        </p:nvSpPr>
        <p:spPr>
          <a:xfrm>
            <a:off x="755640" y="3573360"/>
            <a:ext cx="7848720" cy="45972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移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物体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图形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沿着直线运动的现象叫做平移。平移的特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移时物体的形状、大小、方向都不改变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是物体的位置改变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整体运动过程是直线运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755640" y="5013360"/>
            <a:ext cx="7920000" cy="45972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物体绕着一点或者中心轴运动的现象就是旋转现象。旋转的特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时物体的形状、大小都不改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是本身的方向和位置发生了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443640" y="76500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258920" y="159876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滑沙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K18.EPS" descr="id:2147503205;FounderCES"/>
          <p:cNvPicPr/>
          <p:nvPr/>
        </p:nvPicPr>
        <p:blipFill>
          <a:blip r:embed="rId2"/>
          <a:stretch/>
        </p:blipFill>
        <p:spPr>
          <a:xfrm>
            <a:off x="1260360" y="2209680"/>
            <a:ext cx="6375600" cy="31384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"/>
          <p:cNvGrpSpPr/>
          <p:nvPr/>
        </p:nvGrpSpPr>
        <p:grpSpPr>
          <a:xfrm>
            <a:off x="236520" y="5175360"/>
            <a:ext cx="6743880" cy="1622160"/>
            <a:chOff x="236520" y="5175360"/>
            <a:chExt cx="6743880" cy="1622160"/>
          </a:xfrm>
        </p:grpSpPr>
        <p:sp>
          <p:nvSpPr>
            <p:cNvPr id="63" name="AutoShape 38"/>
            <p:cNvSpPr/>
            <p:nvPr/>
          </p:nvSpPr>
          <p:spPr>
            <a:xfrm>
              <a:off x="1917000" y="5731200"/>
              <a:ext cx="5063400" cy="496440"/>
            </a:xfrm>
            <a:prstGeom prst="wedgeRoundRectCallout">
              <a:avLst>
                <a:gd name="adj1" fmla="val -56907"/>
                <a:gd name="adj2" fmla="val -14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生活中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还看到过哪些平移现象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236520" y="5175360"/>
              <a:ext cx="1655280" cy="162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301760" y="1641600"/>
            <a:ext cx="247644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Administrator\AppData\Roaming\Tencent\Users\781547643\QQ\WinTemp\RichOle\WD%UOQDM3_[0@%(Y9$8(3JL.png"/>
          <p:cNvPicPr/>
          <p:nvPr/>
        </p:nvPicPr>
        <p:blipFill>
          <a:blip r:embed="rId2"/>
          <a:stretch/>
        </p:blipFill>
        <p:spPr>
          <a:xfrm>
            <a:off x="4859280" y="1741320"/>
            <a:ext cx="2817720" cy="21988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2"/>
          <p:cNvGrpSpPr/>
          <p:nvPr/>
        </p:nvGrpSpPr>
        <p:grpSpPr>
          <a:xfrm>
            <a:off x="290520" y="4205160"/>
            <a:ext cx="3849480" cy="1809720"/>
            <a:chOff x="290520" y="4205160"/>
            <a:chExt cx="3849480" cy="1809720"/>
          </a:xfrm>
        </p:grpSpPr>
        <p:sp>
          <p:nvSpPr>
            <p:cNvPr id="70" name="AutoShape 31"/>
            <p:cNvSpPr/>
            <p:nvPr/>
          </p:nvSpPr>
          <p:spPr>
            <a:xfrm>
              <a:off x="1339560" y="4205160"/>
              <a:ext cx="2800440" cy="575280"/>
            </a:xfrm>
            <a:prstGeom prst="wedgeRoundRectCallout">
              <a:avLst>
                <a:gd name="adj1" fmla="val -53851"/>
                <a:gd name="adj2" fmla="val 39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推、拉窗户是平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290520" y="422280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组合 21"/>
          <p:cNvGrpSpPr/>
          <p:nvPr/>
        </p:nvGrpSpPr>
        <p:grpSpPr>
          <a:xfrm>
            <a:off x="4336920" y="3479760"/>
            <a:ext cx="4437360" cy="2257560"/>
            <a:chOff x="4336920" y="3479760"/>
            <a:chExt cx="4437360" cy="2257560"/>
          </a:xfrm>
        </p:grpSpPr>
        <p:sp>
          <p:nvSpPr>
            <p:cNvPr id="73" name="AutoShape 32"/>
            <p:cNvSpPr/>
            <p:nvPr/>
          </p:nvSpPr>
          <p:spPr>
            <a:xfrm>
              <a:off x="4336920" y="4028400"/>
              <a:ext cx="3239280" cy="496440"/>
            </a:xfrm>
            <a:prstGeom prst="wedgeRoundRectCallout">
              <a:avLst>
                <a:gd name="adj1" fmla="val 58597"/>
                <a:gd name="adj2" fmla="val 7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电梯的上、下也是平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Picture 51" descr="20"/>
            <p:cNvPicPr/>
            <p:nvPr/>
          </p:nvPicPr>
          <p:blipFill>
            <a:blip r:embed="rId4"/>
            <a:stretch/>
          </p:blipFill>
          <p:spPr>
            <a:xfrm>
              <a:off x="7378560" y="347976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矩形 1"/>
          <p:cNvSpPr/>
          <p:nvPr/>
        </p:nvSpPr>
        <p:spPr>
          <a:xfrm>
            <a:off x="1235160" y="5557680"/>
            <a:ext cx="6770520" cy="45972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时物体的形状、大小、方向都不改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是物体的位置改变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体运动过程是直线运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K19.EPS" descr="id:2147503291;FounderCES"/>
          <p:cNvPicPr/>
          <p:nvPr/>
        </p:nvPicPr>
        <p:blipFill>
          <a:blip r:embed="rId1"/>
          <a:srcRect l="73170" t="12945" r="0" b="4509"/>
          <a:stretch/>
        </p:blipFill>
        <p:spPr>
          <a:xfrm>
            <a:off x="5940360" y="1166760"/>
            <a:ext cx="2421000" cy="153216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84360" y="1584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乐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K19.EPS" descr="id:2147503291;FounderCES"/>
          <p:cNvPicPr/>
          <p:nvPr/>
        </p:nvPicPr>
        <p:blipFill>
          <a:blip r:embed="rId2"/>
          <a:srcRect l="58367" t="19571" r="26714" b="0"/>
          <a:stretch/>
        </p:blipFill>
        <p:spPr>
          <a:xfrm>
            <a:off x="6829560" y="2852640"/>
            <a:ext cx="1085760" cy="1492200"/>
          </a:xfrm>
          <a:prstGeom prst="rect">
            <a:avLst/>
          </a:prstGeom>
          <a:ln w="0">
            <a:noFill/>
          </a:ln>
        </p:spPr>
      </p:pic>
      <p:pic>
        <p:nvPicPr>
          <p:cNvPr id="84" name="CK19.EPS" descr="id:2147503291;FounderCES"/>
          <p:cNvPicPr/>
          <p:nvPr/>
        </p:nvPicPr>
        <p:blipFill>
          <a:blip r:embed="rId3"/>
          <a:srcRect l="24101" t="0" r="45150" b="0"/>
          <a:stretch/>
        </p:blipFill>
        <p:spPr>
          <a:xfrm>
            <a:off x="3714840" y="2332080"/>
            <a:ext cx="2803320" cy="2313000"/>
          </a:xfrm>
          <a:prstGeom prst="rect">
            <a:avLst/>
          </a:prstGeom>
          <a:ln w="0">
            <a:noFill/>
          </a:ln>
        </p:spPr>
      </p:pic>
      <p:pic>
        <p:nvPicPr>
          <p:cNvPr id="85" name="CK19.EPS" descr="id:2147503291;FounderCES"/>
          <p:cNvPicPr/>
          <p:nvPr/>
        </p:nvPicPr>
        <p:blipFill>
          <a:blip r:embed="rId4"/>
          <a:srcRect l="0" t="0" r="75659" b="0"/>
          <a:stretch/>
        </p:blipFill>
        <p:spPr>
          <a:xfrm>
            <a:off x="927000" y="2139840"/>
            <a:ext cx="2592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"/>
          <p:cNvGrpSpPr/>
          <p:nvPr/>
        </p:nvGrpSpPr>
        <p:grpSpPr>
          <a:xfrm>
            <a:off x="236520" y="4797360"/>
            <a:ext cx="6718320" cy="1622520"/>
            <a:chOff x="236520" y="4797360"/>
            <a:chExt cx="6718320" cy="1622520"/>
          </a:xfrm>
        </p:grpSpPr>
        <p:sp>
          <p:nvSpPr>
            <p:cNvPr id="87" name="AutoShape 38"/>
            <p:cNvSpPr/>
            <p:nvPr/>
          </p:nvSpPr>
          <p:spPr>
            <a:xfrm>
              <a:off x="1891800" y="5114160"/>
              <a:ext cx="5063040" cy="496440"/>
            </a:xfrm>
            <a:prstGeom prst="wedgeRoundRectCallout">
              <a:avLst>
                <a:gd name="adj1" fmla="val -56907"/>
                <a:gd name="adj2" fmla="val -14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生活中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还看到过哪些旋转现象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236520" y="4797360"/>
              <a:ext cx="1655280" cy="16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57240" y="5477400"/>
            <a:ext cx="7416720" cy="581400"/>
          </a:xfrm>
          <a:prstGeom prst="rect">
            <a:avLst/>
          </a:prstGeom>
          <a:solidFill>
            <a:srgbClr val="4f81bd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旋转时物体的形状、大小都不改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是本身的方向和位置发生了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35080" y="1666800"/>
            <a:ext cx="2101680" cy="18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348080" y="1579680"/>
            <a:ext cx="1152720" cy="175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315120" y="1490760"/>
            <a:ext cx="20019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2468520" y="3565440"/>
            <a:ext cx="1568520" cy="152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4924440" y="3849840"/>
            <a:ext cx="24368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187280" y="264960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一找下面事物中的平移或旋转现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1-3A.EPS" descr="id:2147503393;FounderCES"/>
          <p:cNvPicPr/>
          <p:nvPr/>
        </p:nvPicPr>
        <p:blipFill>
          <a:blip r:embed="rId3"/>
          <a:stretch/>
        </p:blipFill>
        <p:spPr>
          <a:xfrm>
            <a:off x="3098880" y="3233880"/>
            <a:ext cx="2646360" cy="19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135080" y="2492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中同一种事物的运动可能既有平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有旋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判断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分为不同的情况或不同的部位来进行描述。汽车行驶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轮胎绕着轮轴转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旋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盘的运动是旋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雨刷器的运动也是旋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车窗玻璃上下或是左右运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平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461960" y="3298680"/>
            <a:ext cx="62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车窗玻璃的运动是平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轮胎、方向盘、雨刷器的等运动是旋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9:50Z</dcterms:modified>
  <cp:revision>437</cp:revision>
  <dc:subject>www.xkb1.com</dc:subject>
  <dc:title>www.xkb1.com</dc:title>
</cp:coreProperties>
</file>